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A29-AE00-4E13-A6A0-92C3B032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4CA-2E0C-4977-AEBB-63439E7B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4BC-9698-498C-897E-1F652A64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CBB-F4DE-4062-89C7-2C75B743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CC2-DE00-47CC-999C-87309C8B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86C-DCF2-4CE7-BA7D-B156DD8B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F1B-D13E-44BD-BD87-1C7A4B18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BDC-033E-421E-A69F-6B705FCD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0E2-7A86-4079-93EC-9B482B63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6CB-686F-435D-97DD-C2671AE9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8C2-B420-4BD8-8661-227708F8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320-00BA-4634-892E-6FE0BF51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CC0-66C6-4A9D-A19A-44645A266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914400" y="914400"/>
                <a:ext cx="1905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14400" y="1600200"/>
                <a:ext cx="1600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90720" y="2362320"/>
                <a:ext cx="5943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14400" y="3124080"/>
                <a:ext cx="6643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82720" y="4267080"/>
                <a:ext cx="669456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533520"/>
                <a:ext cx="6189480" cy="53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ltiplying both sides of Eq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e>
                                        </m:d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Euler's formula, it can be shown that,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38280" y="533520"/>
                <a:ext cx="31910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990720"/>
                <a:ext cx="5867280" cy="33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fter simplifying the above result, and using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Polar form, we hav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85680" y="4876920"/>
                <a:ext cx="59533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rectangular form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80880" y="380880"/>
                <a:ext cx="6400800" cy="47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9760" y="609480"/>
                <a:ext cx="6629400" cy="531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compute other terms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sSub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milarly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, Eq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∧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k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85800" y="838080"/>
                <a:ext cx="6900840" cy="529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k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914400"/>
                <a:ext cx="4876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6:25:30Z</dcterms:created>
  <dc:creator>rajbabu</dc:creator>
  <dc:description/>
  <dc:language>en-US</dc:language>
  <cp:lastModifiedBy>rajbabu</cp:lastModifiedBy>
  <dcterms:modified xsi:type="dcterms:W3CDTF">2002-08-15T15:50:08Z</dcterms:modified>
  <cp:revision>9</cp:revision>
  <dc:subject/>
  <dc:title>PowerPoint Presentation</dc:title>
</cp:coreProperties>
</file>