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BA1-E542-446F-8402-BB29CCD1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F5C-9816-4C64-950E-55B977A4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F3-D705-4E5F-9DE8-8CEF9EF1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453-E836-4FED-9394-950EBB2A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68C-FA81-4441-B0A3-A6A9B89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6A8-D2D1-4428-8E0B-744A966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505-3A59-4B10-A93D-2F58278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3B0-B489-4558-863F-2AB6B033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7F9-1ADF-4FC7-B0C7-3CCD46ED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AFF-5B8C-420A-8268-4CFAC02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FF5-AF5D-452A-98A5-F4347A8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285-A566-440D-ACE4-0D40A64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5173-8D4A-47F2-B793-DCDEAAE4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649440"/>
                <a:ext cx="5334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5920" y="1523880"/>
                <a:ext cx="559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320" y="2895480"/>
                <a:ext cx="722124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,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 be expressed as sum of sinusoids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320" y="228600"/>
                <a:ext cx="608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320" y="1371600"/>
                <a:ext cx="5333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320" y="2709720"/>
                <a:ext cx="7169040" cy="38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3520" y="1523880"/>
                <a:ext cx="487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80880"/>
                <a:ext cx="4876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2440" y="380880"/>
                <a:ext cx="72626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6019920"/>
                <a:ext cx="4876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8600" y="76320"/>
                <a:ext cx="518148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2400" y="1828800"/>
                <a:ext cx="88246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0" y="3352680"/>
                <a:ext cx="763884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/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π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320" y="304920"/>
                <a:ext cx="421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1143000"/>
                <a:ext cx="4898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80" y="2590920"/>
                <a:ext cx="7143840" cy="35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πk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7T21:28:02Z</dcterms:modified>
  <cp:revision>17</cp:revision>
  <dc:subject/>
  <dc:title>PowerPoint Presentation</dc:title>
</cp:coreProperties>
</file>